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C0E6-C3D6-4E3E-8B00-BFEF19925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558D-A580-47AB-A057-BA5F7E805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DFD3-431A-4EAF-AC8A-B2EC50BE8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6DA6-19D3-4EB7-992C-E6734A593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D24A0-359A-46F3-B6AB-6EAB6041A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D2115-FC2C-4907-B453-96FCAAB31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65960-2B6F-4C40-A964-719D78353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6C94C-8A8D-42ED-87C4-6BF8D2022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E18DC-54A5-41FD-8C70-FB358955D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E500B-E7D5-42A3-9631-C52B5616F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BBE94-8C73-40DB-884E-572617B7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596D-54DF-4E4F-9E32-9886C62F8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0B522-BE39-40E7-890E-AFDFD909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FA8D3-8CA8-4BFE-9281-E2F9FFD1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97068-7841-4B1C-A873-E96C9666E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03ADD-A7BB-477A-A8B7-C817B0996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EF6BE-E788-441B-9BB0-D819B3456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ED43-AE41-47DA-9C96-F0C978DC0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647F-194E-45F1-BC7D-6A5F4AF7D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4C4D-C73D-443D-8C4D-0915F03E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F672-B958-4A58-8F8E-65AD631C2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1B4B-6454-4FC9-A649-100D9C03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81DA-E851-47B3-B684-509CCD30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F1C3-E0A5-4086-BC0E-998E06CF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AFBEE-1D87-40EB-A2F4-775F291821F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4AD57-DEC1-45FD-B37E-9C229D49D3D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Hamle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nce of Denmark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nce of Em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095880" y="1219320"/>
            <a:ext cx="2106720" cy="19414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4876920"/>
            <a:ext cx="1382760" cy="15508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066320" y="1219320"/>
            <a:ext cx="7543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is we who are Hamlet. There are as many Hamlets as there are melancholics.”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Oscar Wild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1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dest, widest consciousness in all literature.”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enry Jam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Historical Informa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000 years o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603-1623 (first quarto, second quarto, Folio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ther Hamle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gedy/Reven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istotle’s theory of trage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enge plays (sub-genr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ho is Hamlet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hat are his problems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. Christian prin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. Tender Yout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.Great Procrastinat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. Intellectual Impoten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. “Dreamer cursed with a craven scruple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6.Contemporary Depressa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7.Religously carefu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8.postioned by disclosure of mother’s natu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9. Nihilisti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otifs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dness, indecision, women, clothing, blood, revenge, disease, action, knowledge, deceit, and pas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ime Fram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t I: “month” after King’s dea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t II-Act III : Couple of months, maybe next d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t IV: : 4 hours later, few months OR few yea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t V: 1 day after Hamlet’s retur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13:53:59Z</dcterms:created>
  <dc:creator>jeffco</dc:creator>
  <dc:description/>
  <dc:language>en-US</dc:language>
  <cp:lastModifiedBy>jeffco</cp:lastModifiedBy>
  <dcterms:modified xsi:type="dcterms:W3CDTF">2006-11-29T15:01:22Z</dcterms:modified>
  <cp:revision>2</cp:revision>
  <dc:subject/>
  <dc:title>Hamlet</dc:title>
</cp:coreProperties>
</file>