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46F-D0F1-45DE-8C1C-A3F90C3D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F9-2D1D-4B98-9CB1-01D9C25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008-F4B5-48A4-90FA-3EB99A27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239-512C-4803-8C13-A8F5335E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3F1-7943-41F0-A600-7F565F2B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42F0-344C-4C86-BF22-25E1E0E6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BE9-9846-4DF8-87E3-B630E22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2C5B-0D9D-454E-93DD-BA234B5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9D54-3749-4D06-A5C0-82EC407C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E060-8766-4790-9BD6-2B848E9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7CE-68A3-4DA2-BC1B-F187B61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2F6-9E9D-43EE-986E-8C61891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3DC-3B89-4A8C-808F-1665022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A5A-7CFF-470A-B970-8FF4A23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37F3-01B9-4E11-93CD-3C02733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8060-B13B-4731-9982-BB40D9EA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D5E-9ABB-49C5-97DC-B7AE53CF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AE3-D5BE-47CC-B212-D6A24B4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F58-42D6-429F-9C01-4BC01E8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0D5-5053-4B33-9E62-8B89BCA4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E40-EBF9-4515-BEAA-E82E0AA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290-EF57-4C6E-9E95-042B84E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A55-44A3-44AE-9136-0CC139D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DC0-6297-4727-A457-BBE7330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E0E9-E904-42A5-9399-BE574A6064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09C7-DF95-4E97-A279-6845068C68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aml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Denma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10672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4876920"/>
            <a:ext cx="1382760" cy="155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we who are Hamlet. There are as many Hamlets as there are melancholics.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Oscar Wil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t, widest consciousness in all literature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nry Ja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ical Infor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-1623 (first quarto, second quarto, Foli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Ham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gedy/Reve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’s theory of trag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ge plays (sub-gen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Hamlet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his problem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hristian pri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Tender You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Great Procrast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Intellectual Impo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“Dreamer cursed with a craven scrup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Contemporary Depress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Religously care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postioned by disclosure of mother’s n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Nihilis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tif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ness, indecision, women, clothing, blood, revenge, disease, action, knowledge, deceit, and 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 Fra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: “month” after King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I-Act III : Couple of months, maybe next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V: : 4 hours later, few months OR few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V: 1 day after Hamle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53:59Z</dcterms:created>
  <dc:creator>jeffco</dc:creator>
  <dc:description/>
  <dc:language>en-US</dc:language>
  <cp:lastModifiedBy>jeffco</cp:lastModifiedBy>
  <dcterms:modified xsi:type="dcterms:W3CDTF">2006-11-29T15:01:22Z</dcterms:modified>
  <cp:revision>2</cp:revision>
  <dc:subject/>
  <dc:title>Hamlet</dc:title>
</cp:coreProperties>
</file>