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8BA-281B-4821-AE29-8EC3CBBD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719-1C3E-4C26-82BB-6F2287E4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83C-1295-4B63-BDE3-36FC3E46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C56-7A8F-4A7A-833F-8D7CFA6C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BBD3-D826-45AC-9525-A6BE42DD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7A7-E6CF-41B5-B690-6A83494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BD0-408B-43AC-BDE3-9727189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F78-CB16-4D30-9C40-CA1B8749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E3DD-3871-4D7F-8877-E84B2D77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0EBB-BCB7-48C0-AE6B-FBBC6EE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3B22-2849-497C-B535-61DA5549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8E2-4D37-481A-B4E6-CD4BE7D3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F571-46E2-4157-BC45-1328948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8FB2-8D19-4360-8EA4-D353D71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166B-5C77-4525-9A3C-6E6B0AB7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B344-CFE8-4D68-AD0B-D504FEB2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D7A-C27D-41C2-9B06-2D61F6E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345-8912-452F-BD88-B5C9C10F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552-F315-4803-BB15-E92D49BD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23A-DD3A-4CEC-A8C1-8955D564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0D3-D7F7-4243-9E89-35172B3B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060-BD44-4C41-9F95-7852D7E6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DC7-E366-4582-94CC-6478986F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C2C-AC83-45B6-8CD2-0DA1E1E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97F-2255-439D-98F6-8F73A77D80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D5B-4315-42F2-9E61-5EBD4769B8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aml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Denma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of 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10672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4876920"/>
            <a:ext cx="1382760" cy="155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we who are Hamlet. There are as many Hamlets as there are melancholics.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Oscar Wil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t, widest consciousness in all literature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nry Ja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istorical Inform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3-1623 (first quarto, second quarto, Folio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Ham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gedy/Reve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istotle’s theory of trage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nge plays (sub-gen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is Hamlet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are his problems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hristian pri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Tender You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Great Procrastin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Intellectual Impo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“Dreamer cursed with a craven scrupl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Contemporary Depress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Religously care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postioned by disclosure of mother’s n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Nihilist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otif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ness, indecision, women, clothing, blood, revenge, disease, action, knowledge, deceit, and 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 Fra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: “month” after King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I-Act III : Couple of months, maybe next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IV: : 4 hours later, few months OR few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V: 1 day after Hamle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3:53:59Z</dcterms:created>
  <dc:creator>jeffco</dc:creator>
  <dc:description/>
  <dc:language>en-US</dc:language>
  <cp:lastModifiedBy>jeffco</cp:lastModifiedBy>
  <dcterms:modified xsi:type="dcterms:W3CDTF">2006-11-29T15:01:22Z</dcterms:modified>
  <cp:revision>2</cp:revision>
  <dc:subject/>
  <dc:title>Hamlet</dc:title>
</cp:coreProperties>
</file>