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BD6F-9DD4-4100-9730-C218D1B6D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6B8A-87ED-4B5A-A7CC-91187F9F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C870-9C03-46BC-BA42-F153C6DB5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1608-DEC2-4991-B31E-7F83FBBE7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4E6F-6B2E-4B02-AF59-165FE9A77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582B-1C53-457F-8057-8EC8637C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9F50-3035-4154-9263-FC4B8418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EDD5-272A-4AFB-AD28-ED3CDE87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3A16-E92A-4650-90AC-36D0778C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0626-4D32-435D-85F4-C6686E2A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D15D-D5FA-43CC-AB89-6923371A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C3F3-381C-4B37-AE82-D7365684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CC6C-33CA-4187-831C-E2002338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6CC6-5111-4DA1-878A-103DEAF6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7FB3-F577-4734-AB3F-79C31A2C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99B5-486E-4507-ABE3-B63A9614F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2987-EC63-422F-BEA5-214F46250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4A73-6A4B-48DB-8548-4BD6A104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1725-B2F6-4301-9295-245FEDE8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9E5F-4D40-41F1-874B-29E295DB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5BC9-8E77-4AD1-B327-FD6BBF95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583A-5BA3-4708-9977-2DDC21D3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9624-9BCD-424B-B8ED-DEF7943F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5FD1-9554-48A3-A48B-83F9F423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E152-EE13-4870-95DE-F1A62C20ECF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8D97-9984-49D6-A47B-C667D88E499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amle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nce of Denmar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nce of Em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95880" y="1219320"/>
            <a:ext cx="2106720" cy="1941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4876920"/>
            <a:ext cx="1382760" cy="1550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6632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we who are Hamlet. There are as many Hamlets as there are melancholics.”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Oscar Wild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dest, widest consciousness in all literature.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enry Jam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istorical Inform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00 years o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03-1623 (first quarto, second quarto, Folio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 Haml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gedy/Reven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istotle’s theory of trage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nge plays (sub-gen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o is Hamlet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at are his problems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Christian pri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Tender Yout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Great Procrastinat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. Intellectual Impote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. “Dreamer cursed with a craven scruple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.Contemporary Depress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.Religously carefu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.postioned by disclosure of mother’s nat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. Nihilisti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otifs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dness, indecision, women, clothing, blood, revenge, disease, action, knowledge, deceit, and pa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ime Fram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 I: “month” after King’s dea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 II-Act III : Couple of months, maybe next 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 IV: : 4 hours later, few months OR few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 V: 1 day after Hamlet’s retur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3:53:59Z</dcterms:created>
  <dc:creator>jeffco</dc:creator>
  <dc:description/>
  <dc:language>en-US</dc:language>
  <cp:lastModifiedBy>jeffco</cp:lastModifiedBy>
  <dcterms:modified xsi:type="dcterms:W3CDTF">2006-11-29T15:01:22Z</dcterms:modified>
  <cp:revision>2</cp:revision>
  <dc:subject/>
  <dc:title>Hamlet</dc:title>
</cp:coreProperties>
</file>